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4256-6B0C-4010-952C-1039182D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C90F-FF30-4731-A610-848FD74A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6F6A-9526-479A-828C-88CB58BE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4CF5-BC6A-46AD-B023-DB10C223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35BD-D5E3-4DEC-9DF8-B61DC4F3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DC73-2120-4840-B85F-5D946F90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784E-19E9-4B98-AECE-3F1422DB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8EB9-3B4C-4380-9129-27A47BAE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77FD-1AA1-4951-B730-47AFC686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7C87-ADA3-45C0-B3A9-634027F9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5A69-4E52-4F84-8746-98AEFBEA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CBE6-E6D4-4938-84A4-EFD2F6C5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7749-4D3C-44BD-BF45-00D63915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B14C-1B31-4B0A-8A33-F2A44FE0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56AF-6A7B-48F5-A395-049A0564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72CF-B578-4D55-9EFF-26DB0DE2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35A7-293B-4896-818A-119DBDDB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14E8-53C0-4097-B61A-08EFB9E7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006E-967E-4ADB-A856-BEAED534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47BC9-44AB-46C6-9CA4-ACF33649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4509-A869-4AED-9D0E-336E4C05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C5F3-668F-47F3-AB5A-2060196A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1EBB-35C0-4C7D-88A8-0338E604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1927-BCDC-4A79-B32F-692B4401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D3BB-A3C9-471D-AAC9-92D15CA8FB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E6C5-8DFA-493A-B0DF-99ABE17185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eeplaymusic.com/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eb.mit.edu/invent/iow/nissen.htm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strangefunnyworld.com/wp-content/uploads/2011/03/trampoline-fail-400x400.jp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 rot="20904600">
            <a:off x="838080" y="761760"/>
            <a:ext cx="7155000" cy="26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comic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comic"/>
              </a:rPr>
              <a:t>Trampol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comic"/>
              <a:ea typeface="comic"/>
            </a:endParaRPr>
          </a:p>
        </p:txBody>
      </p:sp>
      <p:sp>
        <p:nvSpPr>
          <p:cNvPr id="127" name=""/>
          <p:cNvSpPr/>
          <p:nvPr/>
        </p:nvSpPr>
        <p:spPr>
          <a:xfrm rot="1764600">
            <a:off x="5787360" y="3732840"/>
            <a:ext cx="297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ian Krist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cember 7,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iod#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uter# 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707080"/>
            <a:ext cx="83818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sic: Free Play Music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he Chili Stain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cember 8, 2011, 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www.freeplaymusic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477120" y="304920"/>
            <a:ext cx="1868400" cy="1347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19320" y="4495680"/>
            <a:ext cx="1660320" cy="982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rot="19545600">
            <a:off x="-78120" y="10659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nted By: George Nis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2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Nissen"/>
          <p:cNvPicPr/>
          <p:nvPr/>
        </p:nvPicPr>
        <p:blipFill>
          <a:blip r:embed="rId1"/>
          <a:stretch/>
        </p:blipFill>
        <p:spPr>
          <a:xfrm>
            <a:off x="0" y="0"/>
            <a:ext cx="26082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Nissen"/>
          <p:cNvPicPr/>
          <p:nvPr/>
        </p:nvPicPr>
        <p:blipFill>
          <a:blip r:embed="rId2"/>
          <a:srcRect l="28735" t="0" r="0" b="0"/>
          <a:stretch/>
        </p:blipFill>
        <p:spPr>
          <a:xfrm>
            <a:off x="2590920" y="0"/>
            <a:ext cx="6553080" cy="2666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14600" y="2590920"/>
            <a:ext cx="2895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melson MI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rampo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ecember 1, 2011,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http://web.mit.edu/invent/iow/nissen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257800" y="2666880"/>
            <a:ext cx="3886200" cy="4191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55960" y="529416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50292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3881520"/>
            <a:ext cx="22100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nge Funny World, Trampoline Fail, December 1, 2011,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http://strangefunnyworld.com/wp-content/uploads/2011/03/trampoline-fail-400x400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nvention: Trampo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rampoline was first made in 1920 by George Niss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WW2 trampolines became extremely popular across the coun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though the company that made the apparatus was sold, the business was still a h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still use it in sports and recre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families still enjoy and love trampo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nventor: George Nisse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orge Nissen was an inventor who created the trampol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ssen was born in 1914 in Ame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16 years old he started building his creative bouncing apparat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ssen brought his creation to his summer camp which there it was a HUGE h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WW2 Nissen started a corporation called “The Nissen Trampoline Corpo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80 after selling his company he continued to invent items such as the bunsaver air cushion and the labtop exercyc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77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77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7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77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7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5:28:38Z</dcterms:created>
  <dc:creator>install</dc:creator>
  <dc:description/>
  <dc:language>en-US</dc:language>
  <cp:lastModifiedBy>install</cp:lastModifiedBy>
  <dcterms:modified xsi:type="dcterms:W3CDTF">2011-12-19T14:51:20Z</dcterms:modified>
  <cp:revision>10</cp:revision>
  <dc:subject/>
  <dc:title>Slide 1</dc:title>
</cp:coreProperties>
</file>